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FF7-D3F4-4815-8F44-4CBED3EA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3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20A-276A-48E2-B616-BA78B512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2D8-5D15-4DDF-83E1-C804158C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5905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5905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32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32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32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6F9-73E0-4CE9-950B-D6A92D93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F05-D1F6-459D-B0B8-4B4A2D16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9D4-8F61-4B95-8862-E19F44B4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74D-D9BB-4EC2-A9F0-12BDBED5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FCD-013F-48F9-AFDD-CC255EC3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86D-5C66-466F-B65D-D1006944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5D5-8268-4703-A40E-21D5E52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836-817E-45CA-80F6-822EA3CA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3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BB1-8C1A-40BF-9602-5661F09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1" marL="371520" indent="-142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2" marL="571320" indent="-114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3" marL="799920" indent="-1141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4" marL="1028520" indent="-1141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5" marL="1028520" indent="-1141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6" marL="1028520" indent="-1141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8CA-15E1-4C81-9D2F-C1224EE4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1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effect does memory have on your testing skil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predict that memory will have a huge effect on test taking.  The better you are in memory the better test scor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Material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hypothesis was …….. Because……….  Some errors in my experiment wer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45:09Z</dcterms:created>
  <dc:creator>Sterling Grade School</dc:creator>
  <dc:description/>
  <dc:language>en-US</dc:language>
  <cp:lastModifiedBy>instructor</cp:lastModifiedBy>
  <dcterms:modified xsi:type="dcterms:W3CDTF">2012-02-29T16:43:38Z</dcterms:modified>
  <cp:revision>3</cp:revision>
  <dc:subject/>
  <dc:title>Title</dc:title>
</cp:coreProperties>
</file>